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9A11-397C-404A-B5C0-FCEE65EA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BDB-3904-4567-B80B-8D30BA39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84D-AD26-492C-9EE4-9EEC53D1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DFEC-7FA0-4EA3-ABAF-3122965A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84B-B049-4B27-9DC3-600D7369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1A6B-2C90-464F-A676-32012258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703-370D-4E9E-8E8F-A3CB7E3C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975-BED7-46CC-94BA-DEFBB8E4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781-99EA-4201-94FE-EE1F0A0B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9F2-82C1-4CBC-ADFE-7E725C84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167-70FE-42EF-A501-1A3D56AD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D03-872E-4530-A9AF-5C39FF8C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D84D-D223-4336-9312-4A3C6E4F92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3590640" cy="588312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148360" y="5445000"/>
            <a:ext cx="288720" cy="287640"/>
            <a:chOff x="5148360" y="5445000"/>
            <a:chExt cx="288720" cy="287640"/>
          </a:xfrm>
        </p:grpSpPr>
        <p:sp>
          <p:nvSpPr>
            <p:cNvPr id="43" name=""/>
            <p:cNvSpPr/>
            <p:nvPr/>
          </p:nvSpPr>
          <p:spPr>
            <a:xfrm>
              <a:off x="5293080" y="5445000"/>
              <a:ext cx="0" cy="287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48360" y="5572440"/>
              <a:ext cx="288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5184720" y="4148280"/>
            <a:ext cx="25236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572000" y="2133720"/>
            <a:ext cx="216000" cy="215640"/>
            <a:chOff x="4572000" y="2133720"/>
            <a:chExt cx="216000" cy="215640"/>
          </a:xfrm>
        </p:grpSpPr>
        <p:sp>
          <p:nvSpPr>
            <p:cNvPr id="47" name=""/>
            <p:cNvSpPr/>
            <p:nvPr/>
          </p:nvSpPr>
          <p:spPr>
            <a:xfrm>
              <a:off x="4680360" y="2133720"/>
              <a:ext cx="0" cy="215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0" y="2229480"/>
              <a:ext cx="216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4788000" y="2349360"/>
            <a:ext cx="21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643280" y="1628640"/>
            <a:ext cx="144720" cy="142920"/>
            <a:chOff x="4643280" y="1628640"/>
            <a:chExt cx="144720" cy="142920"/>
          </a:xfrm>
        </p:grpSpPr>
        <p:sp>
          <p:nvSpPr>
            <p:cNvPr id="51" name=""/>
            <p:cNvSpPr/>
            <p:nvPr/>
          </p:nvSpPr>
          <p:spPr>
            <a:xfrm>
              <a:off x="4716000" y="1628640"/>
              <a:ext cx="0" cy="142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43280" y="1692000"/>
              <a:ext cx="144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4714920" y="2060640"/>
            <a:ext cx="2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572000" y="1413000"/>
            <a:ext cx="144360" cy="144360"/>
            <a:chOff x="4572000" y="1413000"/>
            <a:chExt cx="144360" cy="144360"/>
          </a:xfrm>
        </p:grpSpPr>
        <p:sp>
          <p:nvSpPr>
            <p:cNvPr id="55" name=""/>
            <p:cNvSpPr/>
            <p:nvPr/>
          </p:nvSpPr>
          <p:spPr>
            <a:xfrm>
              <a:off x="4644360" y="1413000"/>
              <a:ext cx="0" cy="144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1477080"/>
              <a:ext cx="144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98920" y="1916280"/>
            <a:ext cx="14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356000" y="2205000"/>
            <a:ext cx="144720" cy="144360"/>
            <a:chOff x="4356000" y="2205000"/>
            <a:chExt cx="144720" cy="144360"/>
          </a:xfrm>
        </p:grpSpPr>
        <p:sp>
          <p:nvSpPr>
            <p:cNvPr id="59" name=""/>
            <p:cNvSpPr/>
            <p:nvPr/>
          </p:nvSpPr>
          <p:spPr>
            <a:xfrm>
              <a:off x="4428720" y="2205000"/>
              <a:ext cx="0" cy="144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56000" y="2269080"/>
              <a:ext cx="144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498920" y="2060640"/>
            <a:ext cx="14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643280" y="1773360"/>
            <a:ext cx="216000" cy="215640"/>
            <a:chOff x="4643280" y="1773360"/>
            <a:chExt cx="216000" cy="215640"/>
          </a:xfrm>
        </p:grpSpPr>
        <p:sp>
          <p:nvSpPr>
            <p:cNvPr id="63" name=""/>
            <p:cNvSpPr/>
            <p:nvPr/>
          </p:nvSpPr>
          <p:spPr>
            <a:xfrm>
              <a:off x="4751640" y="1773360"/>
              <a:ext cx="0" cy="215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3280" y="1869120"/>
              <a:ext cx="216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500720" y="5734080"/>
            <a:ext cx="215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140360" y="4078440"/>
            <a:ext cx="215640" cy="287280"/>
            <a:chOff x="4140360" y="4078440"/>
            <a:chExt cx="215640" cy="287280"/>
          </a:xfrm>
        </p:grpSpPr>
        <p:sp>
          <p:nvSpPr>
            <p:cNvPr id="67" name=""/>
            <p:cNvSpPr/>
            <p:nvPr/>
          </p:nvSpPr>
          <p:spPr>
            <a:xfrm>
              <a:off x="4248360" y="407844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40360" y="4205880"/>
              <a:ext cx="215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356000" y="4437000"/>
            <a:ext cx="2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95640" y="4724280"/>
            <a:ext cx="216000" cy="287280"/>
            <a:chOff x="3995640" y="4724280"/>
            <a:chExt cx="216000" cy="287280"/>
          </a:xfrm>
        </p:grpSpPr>
        <p:sp>
          <p:nvSpPr>
            <p:cNvPr id="71" name=""/>
            <p:cNvSpPr/>
            <p:nvPr/>
          </p:nvSpPr>
          <p:spPr>
            <a:xfrm>
              <a:off x="4104000" y="472428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95640" y="4851720"/>
              <a:ext cx="2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572000" y="3860640"/>
            <a:ext cx="2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292720" y="4869000"/>
            <a:ext cx="216000" cy="287280"/>
            <a:chOff x="5292720" y="4869000"/>
            <a:chExt cx="216000" cy="287280"/>
          </a:xfrm>
        </p:grpSpPr>
        <p:sp>
          <p:nvSpPr>
            <p:cNvPr id="75" name=""/>
            <p:cNvSpPr/>
            <p:nvPr/>
          </p:nvSpPr>
          <p:spPr>
            <a:xfrm>
              <a:off x="5401080" y="48690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92720" y="4996440"/>
              <a:ext cx="2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572000" y="4797360"/>
            <a:ext cx="144360" cy="144360"/>
            <a:chOff x="4572000" y="4797360"/>
            <a:chExt cx="144360" cy="144360"/>
          </a:xfrm>
        </p:grpSpPr>
        <p:sp>
          <p:nvSpPr>
            <p:cNvPr id="78" name=""/>
            <p:cNvSpPr/>
            <p:nvPr/>
          </p:nvSpPr>
          <p:spPr>
            <a:xfrm>
              <a:off x="4644360" y="4797360"/>
              <a:ext cx="0" cy="144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0" y="4861440"/>
              <a:ext cx="144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6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8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4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700360" y="476280"/>
            <a:ext cx="3635280" cy="59562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3348000" y="2133720"/>
            <a:ext cx="289080" cy="287280"/>
            <a:chOff x="3348000" y="2133720"/>
            <a:chExt cx="289080" cy="287280"/>
          </a:xfrm>
        </p:grpSpPr>
        <p:sp>
          <p:nvSpPr>
            <p:cNvPr id="82" name=""/>
            <p:cNvSpPr/>
            <p:nvPr/>
          </p:nvSpPr>
          <p:spPr>
            <a:xfrm>
              <a:off x="3493080" y="2133720"/>
              <a:ext cx="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2261160"/>
              <a:ext cx="28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348000" y="1484280"/>
            <a:ext cx="216000" cy="287280"/>
            <a:chOff x="3348000" y="1484280"/>
            <a:chExt cx="216000" cy="287280"/>
          </a:xfrm>
        </p:grpSpPr>
        <p:sp>
          <p:nvSpPr>
            <p:cNvPr id="85" name=""/>
            <p:cNvSpPr/>
            <p:nvPr/>
          </p:nvSpPr>
          <p:spPr>
            <a:xfrm>
              <a:off x="3456360" y="1484280"/>
              <a:ext cx="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48000" y="1611720"/>
              <a:ext cx="216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292720" y="2421000"/>
            <a:ext cx="289080" cy="287280"/>
            <a:chOff x="5292720" y="2421000"/>
            <a:chExt cx="289080" cy="287280"/>
          </a:xfrm>
        </p:grpSpPr>
        <p:sp>
          <p:nvSpPr>
            <p:cNvPr id="88" name=""/>
            <p:cNvSpPr/>
            <p:nvPr/>
          </p:nvSpPr>
          <p:spPr>
            <a:xfrm>
              <a:off x="5437800" y="2421000"/>
              <a:ext cx="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92720" y="2548440"/>
              <a:ext cx="28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437080" y="1844640"/>
            <a:ext cx="216000" cy="287280"/>
            <a:chOff x="5437080" y="1844640"/>
            <a:chExt cx="216000" cy="287280"/>
          </a:xfrm>
        </p:grpSpPr>
        <p:sp>
          <p:nvSpPr>
            <p:cNvPr id="91" name=""/>
            <p:cNvSpPr/>
            <p:nvPr/>
          </p:nvSpPr>
          <p:spPr>
            <a:xfrm>
              <a:off x="5545440" y="1844640"/>
              <a:ext cx="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37080" y="1972080"/>
              <a:ext cx="216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995640" y="1197000"/>
            <a:ext cx="289080" cy="287280"/>
            <a:chOff x="3995640" y="1197000"/>
            <a:chExt cx="289080" cy="287280"/>
          </a:xfrm>
        </p:grpSpPr>
        <p:sp>
          <p:nvSpPr>
            <p:cNvPr id="94" name=""/>
            <p:cNvSpPr/>
            <p:nvPr/>
          </p:nvSpPr>
          <p:spPr>
            <a:xfrm>
              <a:off x="4140720" y="1197000"/>
              <a:ext cx="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95640" y="1324440"/>
              <a:ext cx="28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716360" y="765000"/>
            <a:ext cx="216000" cy="287640"/>
            <a:chOff x="4716360" y="765000"/>
            <a:chExt cx="216000" cy="287640"/>
          </a:xfrm>
        </p:grpSpPr>
        <p:sp>
          <p:nvSpPr>
            <p:cNvPr id="97" name=""/>
            <p:cNvSpPr/>
            <p:nvPr/>
          </p:nvSpPr>
          <p:spPr>
            <a:xfrm>
              <a:off x="4824720" y="765000"/>
              <a:ext cx="0" cy="28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16360" y="892440"/>
              <a:ext cx="216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651640" y="1628640"/>
            <a:ext cx="21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2492280"/>
            <a:ext cx="21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6000" y="1844640"/>
            <a:ext cx="28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3440" y="147312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9080" y="1633680"/>
            <a:ext cx="28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37080" y="4424400"/>
            <a:ext cx="25236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3440" y="5649840"/>
            <a:ext cx="2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56000" y="291312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0" y="3040200"/>
            <a:ext cx="21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7080" y="5722920"/>
            <a:ext cx="215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0" y="233856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2000" y="2465280"/>
            <a:ext cx="21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9080" y="4857840"/>
            <a:ext cx="2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68720" y="5002200"/>
            <a:ext cx="2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40360" y="291312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3040200"/>
            <a:ext cx="21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994200"/>
            <a:ext cx="2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364000" y="2338560"/>
            <a:ext cx="215640" cy="287280"/>
            <a:chOff x="5364000" y="2338560"/>
            <a:chExt cx="215640" cy="287280"/>
          </a:xfrm>
        </p:grpSpPr>
        <p:sp>
          <p:nvSpPr>
            <p:cNvPr id="117" name=""/>
            <p:cNvSpPr/>
            <p:nvPr/>
          </p:nvSpPr>
          <p:spPr>
            <a:xfrm>
              <a:off x="5471640" y="2338560"/>
              <a:ext cx="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64000" y="2465280"/>
              <a:ext cx="215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565440" y="4497480"/>
            <a:ext cx="2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335640" cy="6253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05080" y="1401840"/>
            <a:ext cx="576360" cy="936720"/>
          </a:xfrm>
          <a:prstGeom prst="rect">
            <a:avLst/>
          </a:prstGeom>
          <a:solidFill>
            <a:srgbClr val="a0fefa"/>
          </a:solidFill>
          <a:ln w="9360">
            <a:solidFill>
              <a:srgbClr val="a0fe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1833480"/>
            <a:ext cx="574560" cy="792360"/>
          </a:xfrm>
          <a:prstGeom prst="rect">
            <a:avLst/>
          </a:prstGeom>
          <a:solidFill>
            <a:srgbClr val="a0fefa"/>
          </a:solidFill>
          <a:ln w="9360">
            <a:solidFill>
              <a:srgbClr val="a0fe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1617840"/>
            <a:ext cx="574920" cy="792000"/>
          </a:xfrm>
          <a:prstGeom prst="rect">
            <a:avLst/>
          </a:prstGeom>
          <a:solidFill>
            <a:srgbClr val="a0fefa"/>
          </a:solidFill>
          <a:ln w="9360">
            <a:solidFill>
              <a:srgbClr val="a0fe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7440" y="609480"/>
            <a:ext cx="358560" cy="505080"/>
          </a:xfrm>
          <a:prstGeom prst="rect">
            <a:avLst/>
          </a:prstGeom>
          <a:solidFill>
            <a:srgbClr val="a0fefa"/>
          </a:solidFill>
          <a:ln w="9360">
            <a:solidFill>
              <a:srgbClr val="a0fe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5080" y="393840"/>
            <a:ext cx="503280" cy="792000"/>
          </a:xfrm>
          <a:prstGeom prst="rect">
            <a:avLst/>
          </a:prstGeom>
          <a:solidFill>
            <a:srgbClr val="a0fefa"/>
          </a:solidFill>
          <a:ln w="9360">
            <a:solidFill>
              <a:srgbClr val="a0fe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80000" y="1330200"/>
            <a:ext cx="574560" cy="792360"/>
          </a:xfrm>
          <a:prstGeom prst="rect">
            <a:avLst/>
          </a:prstGeom>
          <a:solidFill>
            <a:srgbClr val="a0fefa"/>
          </a:solidFill>
          <a:ln w="9360">
            <a:solidFill>
              <a:srgbClr val="a0fe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005440" y="4425840"/>
            <a:ext cx="647640" cy="503280"/>
            <a:chOff x="5005440" y="4425840"/>
            <a:chExt cx="647640" cy="503280"/>
          </a:xfrm>
        </p:grpSpPr>
        <p:sp>
          <p:nvSpPr>
            <p:cNvPr id="128" name=""/>
            <p:cNvSpPr/>
            <p:nvPr/>
          </p:nvSpPr>
          <p:spPr>
            <a:xfrm>
              <a:off x="5005440" y="4425840"/>
              <a:ext cx="647640" cy="503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50160" y="4713120"/>
              <a:ext cx="360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780000" y="4138560"/>
            <a:ext cx="647640" cy="503280"/>
            <a:chOff x="3780000" y="4138560"/>
            <a:chExt cx="647640" cy="503280"/>
          </a:xfrm>
        </p:grpSpPr>
        <p:sp>
          <p:nvSpPr>
            <p:cNvPr id="131" name=""/>
            <p:cNvSpPr/>
            <p:nvPr/>
          </p:nvSpPr>
          <p:spPr>
            <a:xfrm>
              <a:off x="3780000" y="4138560"/>
              <a:ext cx="647640" cy="503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24720" y="4425840"/>
              <a:ext cx="360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205080" y="5073480"/>
            <a:ext cx="647640" cy="503280"/>
            <a:chOff x="3205080" y="5073480"/>
            <a:chExt cx="647640" cy="503280"/>
          </a:xfrm>
        </p:grpSpPr>
        <p:sp>
          <p:nvSpPr>
            <p:cNvPr id="134" name=""/>
            <p:cNvSpPr/>
            <p:nvPr/>
          </p:nvSpPr>
          <p:spPr>
            <a:xfrm>
              <a:off x="3205080" y="5073480"/>
              <a:ext cx="647640" cy="503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49800" y="5360760"/>
              <a:ext cx="360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292720" y="5433840"/>
            <a:ext cx="647640" cy="503280"/>
            <a:chOff x="5292720" y="5433840"/>
            <a:chExt cx="647640" cy="503280"/>
          </a:xfrm>
        </p:grpSpPr>
        <p:sp>
          <p:nvSpPr>
            <p:cNvPr id="137" name=""/>
            <p:cNvSpPr/>
            <p:nvPr/>
          </p:nvSpPr>
          <p:spPr>
            <a:xfrm>
              <a:off x="5292720" y="5433840"/>
              <a:ext cx="647640" cy="503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37440" y="5721120"/>
              <a:ext cx="360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356000" y="4497480"/>
            <a:ext cx="647640" cy="503280"/>
            <a:chOff x="4356000" y="4497480"/>
            <a:chExt cx="647640" cy="503280"/>
          </a:xfrm>
        </p:grpSpPr>
        <p:sp>
          <p:nvSpPr>
            <p:cNvPr id="140" name=""/>
            <p:cNvSpPr/>
            <p:nvPr/>
          </p:nvSpPr>
          <p:spPr>
            <a:xfrm>
              <a:off x="4356000" y="4497480"/>
              <a:ext cx="647640" cy="503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00720" y="4784760"/>
              <a:ext cx="360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643280" y="2781360"/>
            <a:ext cx="576360" cy="576000"/>
            <a:chOff x="4643280" y="2781360"/>
            <a:chExt cx="576360" cy="576000"/>
          </a:xfrm>
        </p:grpSpPr>
        <p:sp>
          <p:nvSpPr>
            <p:cNvPr id="143" name=""/>
            <p:cNvSpPr/>
            <p:nvPr/>
          </p:nvSpPr>
          <p:spPr>
            <a:xfrm>
              <a:off x="4643280" y="2781360"/>
              <a:ext cx="576360" cy="57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71800" y="3110040"/>
              <a:ext cx="320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572000" y="3994200"/>
            <a:ext cx="647640" cy="503280"/>
            <a:chOff x="4572000" y="3994200"/>
            <a:chExt cx="647640" cy="503280"/>
          </a:xfrm>
        </p:grpSpPr>
        <p:sp>
          <p:nvSpPr>
            <p:cNvPr id="146" name=""/>
            <p:cNvSpPr/>
            <p:nvPr/>
          </p:nvSpPr>
          <p:spPr>
            <a:xfrm>
              <a:off x="4572000" y="3994200"/>
              <a:ext cx="647640" cy="503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16720" y="4281480"/>
              <a:ext cx="360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997440" y="2841480"/>
            <a:ext cx="503280" cy="503280"/>
            <a:chOff x="3997440" y="2841480"/>
            <a:chExt cx="503280" cy="503280"/>
          </a:xfrm>
        </p:grpSpPr>
        <p:sp>
          <p:nvSpPr>
            <p:cNvPr id="149" name=""/>
            <p:cNvSpPr/>
            <p:nvPr/>
          </p:nvSpPr>
          <p:spPr>
            <a:xfrm>
              <a:off x="3997440" y="2841480"/>
              <a:ext cx="503280" cy="503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09760" y="3128760"/>
              <a:ext cx="279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140360" y="2492280"/>
            <a:ext cx="502920" cy="503280"/>
            <a:chOff x="4140360" y="2492280"/>
            <a:chExt cx="502920" cy="503280"/>
          </a:xfrm>
        </p:grpSpPr>
        <p:sp>
          <p:nvSpPr>
            <p:cNvPr id="152" name=""/>
            <p:cNvSpPr/>
            <p:nvPr/>
          </p:nvSpPr>
          <p:spPr>
            <a:xfrm>
              <a:off x="4140360" y="2492280"/>
              <a:ext cx="502920" cy="503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52680" y="2779560"/>
              <a:ext cx="279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3:28:29Z</dcterms:created>
  <dc:creator>ShaTar</dc:creator>
  <dc:description/>
  <dc:language>en-US</dc:language>
  <cp:lastModifiedBy>a</cp:lastModifiedBy>
  <dcterms:modified xsi:type="dcterms:W3CDTF">2014-01-20T19:48:52Z</dcterms:modified>
  <cp:revision>4</cp:revision>
  <dc:subject/>
  <dc:title>Слайд 1</dc:title>
</cp:coreProperties>
</file>